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7FE0-3138-46C8-B65F-F258C7AF35D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F40-5EC0-4CAF-A37A-F05689ED8C0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AC83-08A5-460B-A347-ADA9E74D23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938-A59A-441F-9D32-20A79D76FAF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egnaposto intestazione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O SICILIA FSE 2007 -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numero diapositiva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CBD7-074E-4BB7-9060-BE3F59729D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E5A-C720-4FF6-A030-7DE2F58D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B48-EE19-45EE-A32A-7D4C61ED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844-42FB-45BF-B2EF-2460A3E0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03F-C793-4731-BDDE-8C0B4586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0709-F38F-484C-BA48-CB862820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161-8628-43A2-BB53-9F8B46D9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2F0-41A1-4C58-90E3-84541563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B59-5661-44D7-914B-BA2A353E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406-EFCC-4998-AD64-C93C4AE9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73B-BDEF-429F-BFA7-DDA1F917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884-D884-46F2-AD18-BBB8ACE7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4BD-342C-4467-BE39-C512247A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236C-4F8E-40A0-880E-8B7923FC8C1F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7FC4-8384-4D2C-9D63-C4A727B09C7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26E9-D25D-4BCF-BDA1-73C0DD211E8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68360" y="29242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Informativa sulle attività dell’Autorità di Au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68360" y="500040"/>
            <a:ext cx="82454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PO FSE SICILIA  2014/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OBIETTIVO CONVERG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8"/>
          <p:cNvGraphicFramePr/>
          <p:nvPr/>
        </p:nvGraphicFramePr>
        <p:xfrm>
          <a:off x="4608360" y="4903920"/>
          <a:ext cx="6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4903920"/>
                    <a:ext cx="6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Box 2"/>
          <p:cNvSpPr/>
          <p:nvPr/>
        </p:nvSpPr>
        <p:spPr>
          <a:xfrm>
            <a:off x="250920" y="6281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99"/>
                </a:solidFill>
                <a:latin typeface="Arial"/>
              </a:rPr>
              <a:t>Comitato di Sorveglianza 25 giugno 20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"/>
          <p:cNvPicPr/>
          <p:nvPr/>
        </p:nvPicPr>
        <p:blipFill>
          <a:blip r:embed="rId3"/>
          <a:stretch/>
        </p:blipFill>
        <p:spPr>
          <a:xfrm>
            <a:off x="250920" y="4992840"/>
            <a:ext cx="12571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995640" y="5710320"/>
            <a:ext cx="18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000" spc="-1" strike="noStrike">
                <a:solidFill>
                  <a:srgbClr val="003399"/>
                </a:solidFill>
                <a:latin typeface="Arial"/>
              </a:rPr>
              <a:t>Regione Sicili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4"/>
          <a:stretch/>
        </p:blipFill>
        <p:spPr>
          <a:xfrm>
            <a:off x="6156360" y="5084640"/>
            <a:ext cx="168264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10" descr="Risultato immagine per logo repubblica italiana scaricabile"/>
          <p:cNvPicPr/>
          <p:nvPr/>
        </p:nvPicPr>
        <p:blipFill>
          <a:blip r:embed="rId5"/>
          <a:srcRect l="0" t="0" r="0" b="20257"/>
          <a:stretch/>
        </p:blipFill>
        <p:spPr>
          <a:xfrm>
            <a:off x="2556000" y="4924440"/>
            <a:ext cx="7905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810B-CABD-4702-9334-0A9CB524CB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280" y="1916280"/>
            <a:ext cx="792936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con criteri restrittivi e/o discriminatori tali da impedire a nuovi enti di formazione di presentare domande di finanzia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assenza di schede di presenza dettagliate che specifichino le ore e le attività svolte dal personale responsabile per garantire il rispetto della norma sull’incompatibilità del doppio incarico (es. tutor e insegnant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bandi FSE sul finanziamento di borse di dottorato che prevedono l’obbligo per gli studenti di trascorrere un periodo all’estero mentre tale opportunità è facoltativa per gli studenti di dottorato non cofinanziati. La previsione di un tale obbligo può essere discriminato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il contributo dei progetti agli indicatori associati non è stato debitamente verifi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179280" y="27468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665D-5504-4373-91AE-2CE0562C1A4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92200" y="1413000"/>
            <a:ext cx="794844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Con riferimento ad un progetto volto ad aumentare la capacità amministrativa regionale ed  implementato principalmente tramite attività di consulenza esterna con competenza specifiche sono state individuate le seguenti caren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oggetto delle attività di consulenza rimane molto vago e di difficile       comprensione e i risultati non sono stati controllati debitamente dall’Ad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presenza di relazioni finali di alcuni consulenti che includono attività svolte per conto dell’ AdG più affini a mansioni dell’ assistenza tecnica piuttosto che ad attività volte al miglioramento dell’organizzazione amministrativa della regione. Ciò non è considerato in linea con l’obiettivo specifico dell’asse prioritario nel quale l’operazione è certific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Calibri"/>
              </a:rPr>
              <a:t>L’AdA è in attesa del rapporto provvisorio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124000" y="6321600"/>
            <a:ext cx="41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22" name="Freccia a destra 1"/>
          <p:cNvSpPr/>
          <p:nvPr/>
        </p:nvSpPr>
        <p:spPr>
          <a:xfrm>
            <a:off x="304920" y="314172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a destra 8"/>
          <p:cNvSpPr/>
          <p:nvPr/>
        </p:nvSpPr>
        <p:spPr>
          <a:xfrm>
            <a:off x="304920" y="3860640"/>
            <a:ext cx="287280" cy="216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179280" y="0"/>
            <a:ext cx="857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600" spc="-1" strike="noStrike">
                <a:solidFill>
                  <a:srgbClr val="1f497d"/>
                </a:solidFill>
                <a:latin typeface="Arial"/>
              </a:rPr>
              <a:t>ANTICIPAZIONI DELLE PRINCIPALI CONSTATAZIONI DELLA CE RELATIVE AI PROGETTI CONTROLLATI NEL CORSO DELLA MISSIONE DI AUD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FC5-6E58-4BF5-97B3-1126AAEE15D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7 – 30 giugno 201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95280" y="981000"/>
            <a:ext cx="8105760" cy="25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torità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CdR Dipartimento Famiglia e Politiche So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spcAft>
                <a:spcPts val="224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95280" y="3552840"/>
            <a:ext cx="810576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AFFIDABILITA’ DEL SISTEMA</a:t>
            </a: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Funziona.  Sono necessari alcuni miglioramenti -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340000" y="61977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393840" y="604368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2"/>
          <p:cNvSpPr/>
          <p:nvPr/>
        </p:nvSpPr>
        <p:spPr>
          <a:xfrm>
            <a:off x="395280" y="5119560"/>
            <a:ext cx="85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a relazione di sistema è stata trasmessa via SFC ai servizi della Commi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n data 8 giugno 2018 e caricata in pari data sul portale CIRCABC della 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891-1494-4204-80F8-45A4D7CA136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68360" y="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1f497d"/>
                </a:solidFill>
                <a:latin typeface="Arial"/>
              </a:rPr>
              <a:t>AUDIT DELLE OPER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39640" y="907920"/>
          <a:ext cx="8064720" cy="1756080"/>
        </p:xfrm>
        <a:graphic>
          <a:graphicData uri="http://schemas.openxmlformats.org/drawingml/2006/table">
            <a:tbl>
              <a:tblPr/>
              <a:tblGrid>
                <a:gridCol w="2303640"/>
                <a:gridCol w="2808360"/>
                <a:gridCol w="295272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e di pagamento a dicembre 2017 e giugno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Fasi di campion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ertifica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.829.36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.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63.774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9640" y="4292640"/>
          <a:ext cx="8064720" cy="1800360"/>
        </p:xfrm>
        <a:graphic>
          <a:graphicData uri="http://schemas.openxmlformats.org/drawingml/2006/table">
            <a:tbl>
              <a:tblPr/>
              <a:tblGrid>
                <a:gridCol w="2311560"/>
                <a:gridCol w="2728800"/>
                <a:gridCol w="3024360"/>
              </a:tblGrid>
              <a:tr h="36036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i estrat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1f497d"/>
                          </a:solidFill>
                          <a:latin typeface="Calibri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 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51.926,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I F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€</a:t>
                      </a: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44.136,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2516040" y="63165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00040" y="2781360"/>
            <a:ext cx="806436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La combinazione delle risultanze dell’attività dell’audit di sistema e dell’audit sulle operazioni del periodo di riferimento precedente, ha confermato il </a:t>
            </a:r>
            <a:r>
              <a:rPr b="1" i="1" lang="it-IT" sz="1800" spc="-1" strike="noStrike" u="sng">
                <a:solidFill>
                  <a:srgbClr val="1f497d"/>
                </a:solidFill>
                <a:uFillTx/>
                <a:latin typeface="Arial"/>
              </a:rPr>
              <a:t>livello di confidenza del 70%</a:t>
            </a:r>
            <a:r>
              <a:rPr b="0" i="1" lang="it-IT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Arial"/>
              </a:rPr>
              <a:t>da tenere in considerazione per l’attività di campio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539640" y="6218280"/>
            <a:ext cx="16830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98BC-D395-4AFF-8EC2-BFAAC06B3AE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85840" y="35712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AUDIT</a:t>
            </a:r>
            <a:r>
              <a:rPr b="0" lang="it-IT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74840" y="1498680"/>
            <a:ext cx="810576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8.514,40 con un tasso di errore sul campione pari allo 0,093%, mentre il totale delle spese irregolari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II Fas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è stato pari a € 3.386,40 con un tasso di errore sul campione pari allo 0,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errore complessivo del campione di I e II fase è stato pertanto pari ad € 11.900,80 con un tasso di errore del campione pari a allo 0,11% che ha determinato un </a:t>
            </a:r>
            <a:r>
              <a:rPr b="1" lang="it-IT" sz="2000" spc="-1" strike="noStrike" u="sng">
                <a:solidFill>
                  <a:srgbClr val="1f497d"/>
                </a:solidFill>
                <a:uFillTx/>
                <a:latin typeface="Arial"/>
              </a:rPr>
              <a:t>tasso di errore totale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(TET) sull’intera spesa certificata di € 32.993.143,49 pari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,30%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ricondotto dall’AdG al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2%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prima della presentazione del pacchetto di affidabilità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340000" y="623736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6408-4B6B-43C3-B73D-8101D54658BF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755640" y="40464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1f497d"/>
                </a:solidFill>
                <a:latin typeface="Arial"/>
              </a:rPr>
              <a:t>RAC E PARERE 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684360" y="1484280"/>
            <a:ext cx="77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’attività di audit – periodo di riferimento 1°luglio 2017 - 30 giugno 2018 si è conclusa con la redazione della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Relazione annuale di controllo e del Parere annuale di 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espresso </a:t>
            </a: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senza riserve,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trasmessi via SFC alla Commissione Europea con nota 688/06 del 14 febbraio 20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Commissione Europea, con la nota Ares (2019) 1757497 del 18 marzo 2019 ha dichiarato che la Relazione annuale e il parere di Audit, la dichiarazione di gestione e la sintesi annuale di cui all’art. 138 lett b) e c) dell’RDC (pacchetto affidabilità) sono conformi alla legislazioni vig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211480" y="6237360"/>
            <a:ext cx="58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B4E-1E38-4469-8CED-7977053913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68360" y="142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Periodo di Audit 1 luglio 2018 – 30 giugno 20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95280" y="836640"/>
            <a:ext cx="8105760" cy="23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AUDIT</a:t>
            </a:r>
            <a:r>
              <a:rPr b="0" lang="it-IT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DI SISTEMA</a:t>
            </a:r>
            <a:r>
              <a:rPr b="1" i="1" lang="it-IT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’analisi del sistema di gestione e controllo ha riguarda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Gest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Autorità di Certificazi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spcAft>
                <a:spcPts val="24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CdR Dipartimento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500040" y="3500280"/>
            <a:ext cx="810576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1f497d"/>
                </a:solidFill>
                <a:latin typeface="Arial"/>
              </a:rPr>
              <a:t>LIVELLO DI AFFIDABILITA’ DEL SISTEMA </a:t>
            </a:r>
            <a:r>
              <a:rPr b="0" i="1" lang="it-IT" sz="2000" spc="-1" strike="noStrike">
                <a:solidFill>
                  <a:srgbClr val="1f497d"/>
                </a:solidFill>
                <a:latin typeface="Arial"/>
              </a:rPr>
              <a:t>emerso dall’Audit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Categoria 2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 – Funziona. Sono necessari alcuni miglioramen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</a:rPr>
              <a:t>Livello di confidenza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La relazione di sistema è stata trasmessa ai servizi della Commissione via SFC in data 14 febbraio 2019 e in pari data è stata caricata sul portale CIRCABC della 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27280" y="623736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AFFB-0380-40AA-B1D7-227CA8EF179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975360" y="645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68360" y="0"/>
            <a:ext cx="8066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99"/>
                </a:solidFill>
                <a:latin typeface="Arial"/>
              </a:rPr>
              <a:t>Audit delle oper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907920"/>
          <a:ext cx="8064720" cy="1152720"/>
        </p:xfrm>
        <a:graphic>
          <a:graphicData uri="http://schemas.openxmlformats.org/drawingml/2006/table">
            <a:tbl>
              <a:tblPr/>
              <a:tblGrid>
                <a:gridCol w="2675160"/>
                <a:gridCol w="3143160"/>
                <a:gridCol w="2246400"/>
              </a:tblGrid>
              <a:tr h="312840">
                <a:tc gridSpan="3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Domanda di pagamento a dicembre 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mporto certific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I F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010.725,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2708280"/>
          <a:ext cx="8064720" cy="1373040"/>
        </p:xfrm>
        <a:graphic>
          <a:graphicData uri="http://schemas.openxmlformats.org/drawingml/2006/table">
            <a:tbl>
              <a:tblPr/>
              <a:tblGrid>
                <a:gridCol w="3240360"/>
                <a:gridCol w="4824360"/>
              </a:tblGrid>
              <a:tr h="360360"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Campione estr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Numero di oper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Importo complessivo del camp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</a:tr>
              <a:tr h="4316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2.128.122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9" name="TextBox 2"/>
          <p:cNvSpPr/>
          <p:nvPr/>
        </p:nvSpPr>
        <p:spPr>
          <a:xfrm>
            <a:off x="2195640" y="623736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00040" y="2428920"/>
            <a:ext cx="806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  <p:sp>
        <p:nvSpPr>
          <p:cNvPr id="102" name="CasellaDiTesto 1"/>
          <p:cNvSpPr/>
          <p:nvPr/>
        </p:nvSpPr>
        <p:spPr>
          <a:xfrm>
            <a:off x="500040" y="4508640"/>
            <a:ext cx="8137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L’attività di verifica sulle operazioni campionate è stata avviata in data 4 marzo 2019 e si è conclusa il 24 giugno 2019 con la stesura dei rapporti provvisori. A seguito del contraddittorio questa AdA entro il 30 settembre 2019 invierà ai CdR interessati i rapporti definitivi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522B-1D45-4DCA-9155-25BB89CEF0C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74560" y="836640"/>
            <a:ext cx="79218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I servizi della Commissione hanno chiesto alle AdA, già a fine 2018, di trattare nelle Relazioni annuali di controllo (RAC) gli approfondimenti sulle attività svolte, nell’ambito degli audit di sistema e delle operazioni, sull’affidabilità dei dati relativi agli indicatori di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Questa AdA ha ritenuto opportuno garantire l’affidabilità dei dati degli indicatori di performance attraverso una metodologia svolta in tre fasi che ha riguard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di sistema (svolti sul periodo contabile 2018/201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Audit sulle operazioni (periodo contabile 2017-2018 completati e 2018-2019 in cors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Verifica affidabilità dei dati di PF riportati nella bozza di RAA (in cors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</a:rPr>
              <a:t>Gli esiti dell’attività svolta sugli indicatori saranno compendiati in un rapporto che verrà trasmesso entro il mese di giugno alla CE via SF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40000" y="623556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50920" y="26028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99"/>
                </a:solidFill>
                <a:latin typeface="Arial"/>
              </a:rPr>
              <a:t>VERIFICA AFFIDABILITA’ DATI  SUGLI INDICATORI DI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670F-8CD4-47D1-AD60-9E5008AA512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539640" y="1052640"/>
            <a:ext cx="799308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Missione di Audit  21-29 maggio 2019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della DG EMPL (ARES 2498485 del 9 aprile 2019) sul lavoro svolto dall'AdA per il periodo contabile 2017/201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'audit ha riguard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evisione della metodologia dell'AdA in relazione ai seguenti requisiti chiav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5 - Audit di sistema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 RC 16 - Audit delle operazion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- RC 18 - Procedure adeguate per fornire un parere di audit             affidabile per la preparazione della R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a riesecuzione degli audit di 8 operazioni scelte a campione tra quelle controllate dall'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124000" y="62355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1f497d"/>
                </a:solidFill>
                <a:latin typeface="Arial"/>
              </a:rPr>
              <a:t>Comitato di Sorveglianza 25 giugno 20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84360" y="260280"/>
            <a:ext cx="770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99"/>
                </a:solidFill>
                <a:latin typeface="Arial"/>
              </a:rPr>
              <a:t>MISSIONI DI AUDIT DELLA 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1"/>
          <a:stretch/>
        </p:blipFill>
        <p:spPr>
          <a:xfrm>
            <a:off x="304920" y="6140520"/>
            <a:ext cx="1682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0:36:00Z</dcterms:created>
  <dc:creator>PriceWaterhouseCoopers Spa</dc:creator>
  <dc:description/>
  <dc:language>en-US</dc:language>
  <cp:lastModifiedBy>Autore</cp:lastModifiedBy>
  <cp:lastPrinted>2019-06-24T14:33:14Z</cp:lastPrinted>
  <dcterms:modified xsi:type="dcterms:W3CDTF">2019-06-25T08:06:27Z</dcterms:modified>
  <cp:revision>296</cp:revision>
  <dc:subject/>
  <dc:title>Slide 1</dc:title>
</cp:coreProperties>
</file>